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CFFD3-3C61-4CAA-949E-DF0E7A6D5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EDE4B-6544-4EEB-8588-4257ABBA32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66B51-2A8E-495D-9440-4A8BCAD172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30BB6-AFE6-4044-A5C5-C02FB52888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1110F-371D-4C9E-B2DC-5F954E5920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D22A-7B41-41A4-B1F7-3A7F542705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15A5D-6570-48F9-A8AF-AD34E47894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8F7C9-DC0A-4BCA-B5E9-A306C47DC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34F50-7C4C-4C23-86BF-4A61093BC3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34652-25F8-4C0F-8CC7-B384D377C8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F49592-CA4E-4014-B53F-B69BD3A4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03EF-5980-4715-A6F1-BACFA6DEA3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D15D9E-ADC9-4EB8-945E-7BD94EE5AD6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ight of Sun Not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219320"/>
            <a:ext cx="8229600" cy="490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sun and moon appear to move across the sky each day because of Earth’s rotation on its axis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path of the sun chang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ith the seaso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ngle of the sunlight caus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 shadow to appear on the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ther side of the  objec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length of the shadow changes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roughout the day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6620040" y="2971800"/>
            <a:ext cx="2295360" cy="350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06T13:05:21Z</dcterms:created>
  <dc:creator>skrial</dc:creator>
  <dc:description/>
  <dc:language>en-US</dc:language>
  <cp:lastModifiedBy>skrial</cp:lastModifiedBy>
  <dcterms:modified xsi:type="dcterms:W3CDTF">2010-09-23T19:36:02Z</dcterms:modified>
  <cp:revision>3</cp:revision>
  <dc:subject/>
  <dc:title>Height of Sun Notes 10/6</dc:title>
</cp:coreProperties>
</file>